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8F7-EEE2-4A30-A718-D81C9F93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B1C-A5E2-4801-9F0C-E073C8E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609-E267-4A30-BDE8-C16FC554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42D-6B18-4569-929F-5B98EFEE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B3D0-05B4-46DB-BBCD-A28427C7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9504-18F9-4924-AF68-C9174CAE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DDC-F840-43B0-864A-5BFCB912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9F4C-11AF-45EC-BD8D-3FCEC317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C1C4-F34D-4E48-91A9-462E59C0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D11-D914-41BD-A11E-D2213587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E58-57A9-4105-945A-8A8DA3E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657-167B-41F6-BD7D-F49442C8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EB4-237E-467F-9618-864B5C0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A13-12C8-4900-9702-7B0DABD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C8B9-53A2-496B-ADB1-0CF60938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A331-0746-4EEB-AC3D-906F05B2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7B64-9E27-4C69-9503-B784BEB2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CD7-2FB6-4941-8FB0-BB1D5576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193-2CA8-4457-827C-B3FBE17B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5F6-97C3-4025-BB11-82BC6D4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389-8194-4FF4-A940-A048A5E6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F3B-2E8B-4852-8DE3-A5BF65C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DB0-5A76-4C6F-9A2A-6C17AB5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ABF-81E2-4BEA-B917-17A1B01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CD7-4DD3-418A-8862-2D8432D7EA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93A6-1E34-49D3-8A8C-CF936F02D1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26436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76360" y="1905120"/>
            <a:ext cx="4467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Castellar"/>
              </a:rPr>
              <a:t>MA VIL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913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d6e0e0"/>
                </a:solidFill>
                <a:latin typeface="Arial Black"/>
              </a:rPr>
              <a:t>    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2000"/>
            </a:b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     </a:t>
            </a: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J’habite dans…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6775560" cy="26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46576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Ma rue</a:t>
            </a:r>
            <a:r>
              <a:rPr b="0" lang="es-ES" sz="3300" spc="-1" strike="noStrike">
                <a:solidFill>
                  <a:srgbClr val="336666"/>
                </a:solidFill>
                <a:latin typeface="Castellar"/>
              </a:rPr>
              <a:t> 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1872000" cy="194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6120" y="190476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’habite dans un imme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ns un ap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 troisième 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 centr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à 5 minutes du centr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6120" y="4000320"/>
            <a:ext cx="3771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ns une maison, en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dehors de la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à 5 km. de la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2637000"/>
            <a:ext cx="165708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87280" y="4000680"/>
            <a:ext cx="2953080" cy="194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Très cher quartier"/>
          <p:cNvPicPr/>
          <p:nvPr/>
        </p:nvPicPr>
        <p:blipFill>
          <a:blip r:embed="rId3"/>
          <a:stretch/>
        </p:blipFill>
        <p:spPr>
          <a:xfrm>
            <a:off x="5580000" y="404640"/>
            <a:ext cx="900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j-aime-mon-quartier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Dans mon quarti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y a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merc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staurants,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u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éco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n y trouve aussi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r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g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n’y a pas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’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ôpital d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 quarti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n’y a pas 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ma d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 quart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190512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331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0000"/>
                </a:solidFill>
                <a:latin typeface="Arial Black"/>
              </a:rPr>
              <a:t>Exercice:</a:t>
            </a:r>
            <a:br>
              <a:rPr sz="2100"/>
            </a:b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Dis </a:t>
            </a:r>
            <a:r>
              <a:rPr b="0" lang="es-ES" sz="1700" spc="-1" strike="noStrike" u="sng">
                <a:solidFill>
                  <a:srgbClr val="cc0000"/>
                </a:solidFill>
                <a:uFillTx/>
                <a:latin typeface="Arial Black"/>
              </a:rPr>
              <a:t>ce qu’il y a</a:t>
            </a: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 et </a:t>
            </a:r>
            <a:r>
              <a:rPr b="0" lang="es-ES" sz="1700" spc="-1" strike="noStrike" u="sng">
                <a:solidFill>
                  <a:srgbClr val="cc0000"/>
                </a:solidFill>
                <a:uFillTx/>
                <a:latin typeface="Arial Black"/>
              </a:rPr>
              <a:t>ce qu’il n’y a pas</a:t>
            </a: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 dans ton quartier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es-ES" sz="1700" spc="-1" strike="noStrike">
                <a:solidFill>
                  <a:srgbClr val="cc0000"/>
                </a:solidFill>
                <a:latin typeface="Arial Black"/>
              </a:rPr>
              <a:t>Dis quels sont les sites les plus emblématiques de Paris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4680" y="3859200"/>
            <a:ext cx="2239920" cy="1949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1080" y="1904760"/>
            <a:ext cx="3776760" cy="1950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3860640"/>
            <a:ext cx="822960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Et de ta v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24360" y="1773360"/>
            <a:ext cx="2136600" cy="2136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50920" y="148428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66"/>
                </a:solidFill>
                <a:latin typeface="Castellar"/>
              </a:rPr>
              <a:t>Ma ville est connue pour…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99cc00"/>
                </a:solidFill>
                <a:latin typeface="Arial"/>
              </a:rPr>
              <a:t>Son équipe de foot (hockey,basket…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6600"/>
                </a:solidFill>
                <a:latin typeface="Arial"/>
              </a:rPr>
              <a:t>Ses commerces, son quartier ancien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cc00"/>
                </a:solidFill>
                <a:latin typeface="Arial"/>
              </a:rPr>
              <a:t>Son musée d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0000"/>
                </a:solidFill>
                <a:latin typeface="Arial"/>
              </a:rPr>
              <a:t>Ses fêtes d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996633"/>
                </a:solidFill>
                <a:latin typeface="Arial"/>
              </a:rPr>
              <a:t>Ses festivals d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66"/>
                </a:solidFill>
                <a:latin typeface="Arial"/>
              </a:rPr>
              <a:t>C’est la ville natale de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3399"/>
                </a:solidFill>
                <a:latin typeface="Arial"/>
              </a:rPr>
              <a:t>Les produits typiques de ma ville sont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26436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203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06:30:06Z</dcterms:created>
  <dc:creator>nombre</dc:creator>
  <dc:description/>
  <dc:language>en-US</dc:language>
  <cp:lastModifiedBy>nombre</cp:lastModifiedBy>
  <dcterms:modified xsi:type="dcterms:W3CDTF">2013-03-11T04:31:19Z</dcterms:modified>
  <cp:revision>4</cp:revision>
  <dc:subject/>
  <dc:title>J’habite dans…</dc:title>
</cp:coreProperties>
</file>